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41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ftr" idx="42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 type="sldNum" idx="43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094BABA-663E-4724-AD3C-664E00A1CB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3C85BA4-2605-4DF7-8CAF-D9E7C3B21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so P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et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zovic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s far as regards LdV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the two new studies for 2009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lation between sectoral qualifications and the European Qualifications Framework (most projec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T in levels 6-7-8 of the EQF  (HE-LEO proje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ample for th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F launch conference in Summer 2008 in Bru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F-advisory group meetings/cluster on recognition of 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388C5-659B-475B-A728-E7C3353C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361C7-5767-4A2F-A863-7C296CF3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F3D68-0175-4336-87A0-C93B8BFB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BED35-81B1-4E27-9CFD-55C987BB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87437-322E-40AF-8DDB-5A06CA56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95EFA-86C5-4310-AE30-ED23AE7F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C4BD4-86DE-4872-828B-F781A65D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C0355-DFAB-4929-9F18-D031AA3D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F8531-4191-476E-B29D-CAEA1D01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4CA86-9475-4134-858F-C1A33408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EB51F-5FD2-4E7D-8CB4-F8BD591B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2D46D1E-0BEA-49F1-89E2-F4CBAF2C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F7998-17ED-422D-B08D-8D28225C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E27276-E13B-4925-94D2-3C5C188E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8C10C84-9330-4A76-BD78-AF6BA49E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21117DD-95DC-45BD-B18D-B8EF78B0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D89388-4A6C-461B-8861-E57F626D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94A5611-0FAA-414A-992C-DDFADB46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C26A2B8-B9AD-4AF2-8EB0-A41660C6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DBEDEE6-6FAE-47C5-BC7F-4E282C32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0CA70CF-34EC-408A-ADAF-31D4F40A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805B6C4-BF8E-4AB3-A0DD-F46AA497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58023FB-776C-485A-9144-11E24CAE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8ECE1-BBEA-46E9-9240-A017D8AE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466812-68C2-40EB-8028-200EAD93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86E93F-32CE-4438-B599-57175F4E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B2000-5AFA-45A4-949A-FE284247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48781-1D26-4105-87EA-7D74AA54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4D65D-289A-4E61-A24E-68F65C86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6617C-3F53-4A95-933D-0DF6D0BC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534ED-1C9E-4EC1-8148-0D74BE53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EC3DB-C91D-4CBF-956A-6E72660D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9DC4B-0241-4A81-AF64-DCD71BF1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C9AAD-C7C2-49C8-A4F9-C34DEED5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2619F-281A-4EA8-9939-5C5A7E65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08A05-FCDF-46EB-A667-D14EA153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0AA69-5A01-49E8-B49E-5FD2AE1F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454AE-DF03-46C3-BA33-8BFB171C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C8D6A-1020-4809-B582-B80B4FE8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035E5-5EA9-42C6-ADA3-7A23F59E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26639-553B-4ECA-BBBF-809DB243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545E0-53A8-4E42-AC1F-C372004D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6473D-3858-4AC5-A7B9-D4F896D1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364CA-2A77-4380-AF1D-EB3281D2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2ED04-015B-454B-AC9F-5B14440D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F5DFC-46C7-4614-BB8E-72B80721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568FA-2DA9-43F1-82CD-31968F38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6A338-F772-4196-9356-3EFA0327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1F52E-BA4C-4302-A7C5-270078BA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2AC0F-D8B6-4109-8903-31DBEB1F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507A1-B6EC-4BF9-933C-D198D6C4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DEDD79-C4B3-4B8B-ACB8-15CE6B31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808E67-A049-41F1-AB70-68921F58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FDFA68-AADF-40E9-901F-1FB0620F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A139C-19A9-4490-9FD3-B86B4139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191F5D-92EA-47E6-8619-B5ED9A42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611CF7-BAF4-4987-8F53-057BFC51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608AC1-CA53-49DB-8DB2-7EC3A74C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21C55B-3FA3-47FA-84D7-C2C5CBFB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728CD4-704B-4921-A971-60F84053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B5D85C-CD51-49D5-B523-7734007A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4C7116-3920-48FD-8644-B8AD5961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B7B5CA-705B-4528-919F-91A388BA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13F6B3-326A-41A9-AEB0-4C9E9238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1ADDAC-8740-4F32-8CB8-3A21DE02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20889-F0DF-4ABE-9A24-BFC7DDE0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6CC42F-1B66-49C2-B58C-63DAED85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3424B9-8A51-4D52-B1E8-0057CD49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71FB01-D302-4569-886D-6A993FA4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319DFD-DCE3-4F24-8CF7-BA110FCB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ED6F7E-DBEF-4254-B099-3A490E4D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7406FA-060D-4F94-B214-929246D4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7534DD-0060-4552-AF95-3DFE5E6C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13AD18-9C1B-4055-B805-8FD1F730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F2CD05-A648-4EA8-9683-77E561AA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6312A6-568B-4638-95B5-C586558A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2F9FE-2279-4434-AB38-FFB8C640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E74F3D-D19E-495B-95C4-F7811A4E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98351-5438-4C48-A469-48ABEB65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4083F-2189-4327-96AD-3B791089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35F75-930F-4CBE-9099-656E5418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28AA8-2A7E-4C8C-911A-011284CB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86F9C-13A2-4B39-BE7C-DC2D10C4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4556D-DBB0-4A0A-81D2-49C54878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15D23-D2AA-438A-9B0F-B7B17209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637A9-E54B-4492-BF02-C4CC28ED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D3D07-2633-4FC9-B2C7-665428BA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C97CD-CB41-4B22-9BD7-1AC9FF24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5A2ED-F186-47FE-9AD6-B2D13DA3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AB89D-C02F-4899-AF1C-862FD76C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1454B-E593-41BF-9A4B-795A795D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7A4DD-8922-445B-8664-5B17E568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11DE27-398D-43F0-AB95-6A1BA3DF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6B4DC7-011D-4579-BABF-C9133DE8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56E3FE-3772-4AD7-9B82-F115DB0A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2CAE4-8E1D-4DBB-8758-B7DCBFBA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1A8FF2-DB4E-4F0B-B974-5D354CCC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8D87DC-4101-436E-A662-E7D24943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06481-2CE4-4C3C-8E04-0FB67C9F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F2F0B-165C-4365-AB9F-80C788FC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39E47F-41FE-49DE-BBED-AB4D87A4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C8C3A9-9E44-469B-B018-6F41D0FD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445F5D-D7C5-4B1B-B872-854C98CE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14C40D-3CBD-43BA-A827-5820174B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277C04-B6FD-408D-8460-A4A93740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0778AE-416A-41BC-A72F-418D11C4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0CC501-7912-47AD-91F8-22973AB2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7C6E85-6527-44EF-AC74-4423D98E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5210BB-9D51-4025-A5B5-2594B1F0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6A949-9CA9-4A7C-82C0-12EE04AC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B810BE-855F-4F69-92C8-BB1A6C58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CFCF3B-C980-4CDD-8815-E4BAB3BF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0CC753-9F54-4747-A1E2-EEC35F49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77540B-D45F-43DB-8A92-CF5E25BE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997472-D589-4366-ADE7-FC3698A0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5E80F7-34A2-40E5-98A5-909EF9B5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2458C0-5D67-4205-A151-B76B28DF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53F80-421D-4476-889B-2FA7677E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34E99-6E79-4CDC-8FFE-4BB17B6D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08242-5919-40DB-9C5B-01F4BEE5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T_SECNDPG_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6"/>
          <p:cNvSpPr>
            <a:spLocks noGrp="1"/>
          </p:cNvSpPr>
          <p:nvPr>
            <p:ph type="sldNum" idx="4"/>
          </p:nvPr>
        </p:nvSpPr>
        <p:spPr>
          <a:xfrm>
            <a:off x="651636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72EA-67AE-46F6-8A69-B6522A84D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7" descr="PPT_SECNDPG_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40"/>
          </p:nvPr>
        </p:nvSpPr>
        <p:spPr>
          <a:xfrm>
            <a:off x="651636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0060-4A36-4C6A-92F4-6DEB79E3FB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PT_SECNDPG_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8"/>
          </p:nvPr>
        </p:nvSpPr>
        <p:spPr>
          <a:xfrm>
            <a:off x="651636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28E2-F537-421F-A6DB-D9FF69820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PPT_SECNDPG_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12"/>
          </p:nvPr>
        </p:nvSpPr>
        <p:spPr>
          <a:xfrm>
            <a:off x="651636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43E2-6079-4398-A011-19BE31731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PPT_SECNDPG_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6"/>
          </p:nvPr>
        </p:nvSpPr>
        <p:spPr>
          <a:xfrm>
            <a:off x="651636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85C1-DA80-498B-BD92-B7CA5E4E44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PPT_SECNDPG_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20"/>
          </p:nvPr>
        </p:nvSpPr>
        <p:spPr>
          <a:xfrm>
            <a:off x="651636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D421-239F-452C-8EC8-BC1294E332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PPT_SECNDPG_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24"/>
          </p:nvPr>
        </p:nvSpPr>
        <p:spPr>
          <a:xfrm>
            <a:off x="651636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A242-23D3-4967-8BB0-277445F319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PPT_SECNDPG_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 type="sldNum" idx="28"/>
          </p:nvPr>
        </p:nvSpPr>
        <p:spPr>
          <a:xfrm>
            <a:off x="651636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1283-442E-4062-BD8C-CAC7CADED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PPT_SECNDPG_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32"/>
          </p:nvPr>
        </p:nvSpPr>
        <p:spPr>
          <a:xfrm>
            <a:off x="651636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398D-4A3A-4097-8885-29D28A3439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7" descr="PPT_SECNDPG_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36"/>
          </p:nvPr>
        </p:nvSpPr>
        <p:spPr>
          <a:xfrm>
            <a:off x="651636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4D24-B2CA-48D7-8465-062339AD1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rainingvillage.gr/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qualification-team@cedefop.europa.eu" TargetMode="External"/><Relationship Id="rId2" Type="http://schemas.openxmlformats.org/officeDocument/2006/relationships/hyperlink" Target="mailto:jens.bjornavold@cedefop.europa.eu" TargetMode="External"/><Relationship Id="rId3" Type="http://schemas.openxmlformats.org/officeDocument/2006/relationships/hyperlink" Target="mailto:loukas.zahilas@cedefop.europa.eu" TargetMode="External"/><Relationship Id="rId4" Type="http://schemas.openxmlformats.org/officeDocument/2006/relationships/hyperlink" Target="mailto:rena.psifidou@cedefop.europa.eu" TargetMode="External"/><Relationship Id="rId5" Type="http://schemas.openxmlformats.org/officeDocument/2006/relationships/hyperlink" Target="mailto:tormod.skjerve@cedefop.europa.eu" TargetMode="External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5"/>
          <p:cNvSpPr/>
          <p:nvPr/>
        </p:nvSpPr>
        <p:spPr>
          <a:xfrm>
            <a:off x="6516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FC2F-036D-4599-9CCB-073C4F1A02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4" descr="PPT_FIRSTPG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867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Testing the EQF: relating international, national and sectoral qualifications to EQF</a:t>
            </a:r>
            <a:br>
              <a:rPr sz="3200"/>
            </a:br>
            <a:br>
              <a:rPr sz="3200"/>
            </a:b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The way forwar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285840" y="5143680"/>
            <a:ext cx="640080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1 Novem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na Psifid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ject Manager, Cedef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304020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362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You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8200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invite us in (final)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send us update information/outcomes/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join/continue active participation in virtual communities: EQF/ECV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ult Cedefop publications on ETV website: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trainingvillage.g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362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Qualifications team</a:t>
            </a:r>
            <a:br>
              <a:rPr sz="3200"/>
            </a:b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qualification-team@cedefop.europa.eu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889308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ns Bjornavold 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ens.bjornavold@cedefop.europa.e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ukas Zahilas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oukas.zahilas@cedefop.europa.e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 Psifidou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ena.psifidou@cedefop.europa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abelle Le-Mouillour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</a:rPr>
              <a:t>isabelle.le-mouillour.cedefop.europa.eu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rmod Skjerve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ormod.skjerve@cedefop.europa.e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362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W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/synthesise and make use of projects’ finding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 research on topics relevant to policy process and fill in knowledge gaps in the area of 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 EQF-Advisory group: subgroup on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background papers to conferences/workshops/seminars/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362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U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collaborating in a fruitful w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1:56:11Z</dcterms:created>
  <dc:creator>LZAH</dc:creator>
  <dc:description/>
  <dc:language>en-US</dc:language>
  <cp:lastModifiedBy>Visitor</cp:lastModifiedBy>
  <dcterms:modified xsi:type="dcterms:W3CDTF">2008-11-11T09:43:54Z</dcterms:modified>
  <cp:revision>173</cp:revision>
  <dc:subject/>
  <dc:title>Introduction on Cedefop</dc:title>
</cp:coreProperties>
</file>